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ften we start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rades 3, 5, 7,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e hon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kind of vague , e.g. solve what kinds of problems, explain how, what variety of tools and strategies and why the variety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ork with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AY ATTENTION TO HOW YOU MAKE THE DECISIONS NOW- NO DISCLOSING- JUST FOR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will use a process based on big ideas to learning goals to preplanned consolidating to going back to rest of le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PQ template in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any grade levels- starting with grade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uld have used a different big idea, but chose not to- have to cho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ice goal is bigger than just doing a qu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urriculum specific, assessable and concept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elps focus you on where you are go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tualizing the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alk to a 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tart by returning to the video sample we saw in plenary 2- looking for a fraction slightly greater than 2/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ltice allows for some cho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at’s g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iltering expectations- how does it feel? good? nervou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member= more coming so unsettled makes se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ice not a sk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bout for some open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ocus is on the fact that rate problems are always about equivalent represen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ice I picked 3200 and 1200 since half of 32 is not 12 (it’s 16), but you could use half of 32 for 16 and half of that for 8 and go 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oking at last consolidation (download problem)- what would you do to get there? what activit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ork with a partner to come up with an idea=-- we will share 1 or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ice that 2/3 is between 1/2 and 3/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re is a sheet circulating that will give you a choice about what consolidation questions to use to assess accomplishment of a particular goal. Choose one and discuss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hoices are grades 1, 3, 5, 7 and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iscuss which you like better and why-- we will hear from a f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ne way to show it is using a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lack is graph of y = 2/3 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d is graph of y = 3/4 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lue is graph of y = 2.5/3.5 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 half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ut will it always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uppose one line (top black) is above another (bottom bl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ice that I formed a parallel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coordinates of the top right vertex are s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alfway is middle,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tudents watch video and raise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use video to solve problems they pro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scalator video- usually clock (not on one you will see, thoug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atch going up with time, going down with time and ask about going up a down escalator when only part of it is sh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kinds of questions re how fast things are mo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fast rain is coming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fast windshield wiper blades are moving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6AD3-E253-480A-B25B-E2B6AE3FE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2316-1A8A-42B6-9F8F-A69EB489C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C985-625B-41EF-80B5-CE1054CDF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E828-C76E-40AC-BD59-35F208F187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7239-2B19-4879-B04E-A90E110E8C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7C72-E6CF-4DB7-A076-2F31D0B63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355E-D375-4D9F-A7FD-FF91BFF0E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58B51-B70B-4B16-8923-A47A29E6E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962E-BE35-4B93-9E8E-79084763C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7B9A-9925-4202-B968-437DB0C7A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541C-798F-45AD-BE35-539FE4F5D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FB52-2DA9-48D0-97C4-A92DB465B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44EE-798A-4B26-8A43-94C0842BD7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0395-6AEC-4C7F-9590-AA05F4809A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ouble Click to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812520" y="534960"/>
            <a:ext cx="7358040" cy="5073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39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9760" indent="-52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what problem?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239760" indent="-52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what ideas?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239760" indent="-52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why valuable?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art here instead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2519280" cy="3241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2401920" cy="3084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3402000" y="1963800"/>
            <a:ext cx="222408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2b5ca9"/>
                </a:solidFill>
                <a:latin typeface="Arial"/>
              </a:rPr>
              <a:t>instincts</a:t>
            </a:r>
            <a:endParaRPr b="0" lang="en-US" sz="73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93520" y="1945800"/>
            <a:ext cx="7358040" cy="44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hoose one expectation on handout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iscuss current focus; likely assessmen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b5ca9"/>
                </a:solidFill>
                <a:latin typeface="Arial"/>
              </a:rPr>
              <a:t>what matters? </a:t>
            </a:r>
            <a:endParaRPr b="0" lang="en-US" sz="45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96960" y="1963800"/>
            <a:ext cx="711684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Gill Sans"/>
              </a:rPr>
              <a:t>Grade 2 expectation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Gill Sans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Gill Sans"/>
              </a:rPr>
              <a:t>Estimate, count, and represent (using the ¢ symbol) the value of a collection of coins with a maximum value of one dolla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ig ide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58880" y="2424240"/>
            <a:ext cx="79390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Gill Sans"/>
              </a:rPr>
              <a:t>Numbers are compared in many way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sson go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2055960"/>
            <a:ext cx="91440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2" marL="239760" indent="-239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Gill Sans"/>
              </a:rPr>
              <a:t>Students will be able to determine how to represent a cent amount using only one type of coi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ng ques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9480" y="154440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64440" rIns="0" tIns="32040" bIns="32040" anchor="ctr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8 nicke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re or fewer dimes? wh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many? how do you know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b5ca9"/>
                </a:solidFill>
                <a:latin typeface="Arial"/>
                <a:ea typeface="Arial"/>
              </a:rPr>
              <a:t>what would a great answer look like?  (success criteria)</a:t>
            </a:r>
            <a:endParaRPr b="0" lang="en-US" sz="4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tudents co-constructing criteria for a good answe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where would they focus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opefully.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to skip counting by 5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dimes since worth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of 2:1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ore ope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wo different amount you could show with eithr only nickels or only d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numbers of nickels and d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eaching toward proportional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nar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7715160" y="5402160"/>
            <a:ext cx="143532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ttend to.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mathema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responses, organizat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matters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de 4 expec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 an understanding of simple multiplicative relatioships involving unit rates, through investigation using concrete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lated big ide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ying numbers provides information about characteristics of the numbers in the relation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sson go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recognize what costs are possible or impossible based on a particular unit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ng ques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9480" y="154440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chool picn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23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ral prices over $100 she could have spent and several she could not have spent and how you know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208480" y="1838160"/>
            <a:ext cx="1509840" cy="15368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6896160" y="267048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$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83560" y="3241800"/>
            <a:ext cx="1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b5ca9"/>
                </a:solidFill>
                <a:latin typeface="Arial"/>
                <a:ea typeface="Arial"/>
              </a:rPr>
              <a:t>what would a great answer look like?  (success criteria)</a:t>
            </a:r>
            <a:endParaRPr b="0" lang="en-US" sz="4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tudents co-constructing criteria for a good answe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where would they focus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93520" y="1419120"/>
            <a:ext cx="7358040" cy="4019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values in each category with focus  on jus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why not two consecutive numbers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why no numbers not four apar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893520" y="391680"/>
            <a:ext cx="7358040" cy="171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opefully...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93520" y="321840"/>
            <a:ext cx="7358040" cy="5072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dd numbers not possible and wh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akes a known multiple of 4 and keeps adding 4 to i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3520" y="1347480"/>
            <a:ext cx="7358040" cy="4019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wo insights or questions to ask for later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o this point..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matters?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7880" y="1303200"/>
            <a:ext cx="7358040" cy="4019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Grade 6 expec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lve problems that arise from real-life situations and that relate to the magnitude of whole numbers up to 1 000 00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Greater 2-3rds_Stude#2F00D1.mov" descr="Final Plenary 3.ppt_media/Greater 2-3rds_Student Pair 3-1.mov"/>
          <p:cNvPicPr/>
          <p:nvPr/>
        </p:nvPicPr>
        <p:blipFill>
          <a:blip r:embed="rId1"/>
          <a:stretch/>
        </p:blipFill>
        <p:spPr>
          <a:xfrm>
            <a:off x="0" y="-184320"/>
            <a:ext cx="9205920" cy="613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b5ca9"/>
                </a:solidFill>
                <a:latin typeface="Arial"/>
              </a:rPr>
              <a:t>big idea</a:t>
            </a:r>
            <a:endParaRPr b="0" lang="en-US" sz="6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6720" y="1419120"/>
            <a:ext cx="7358040" cy="4019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are many equivalent representations for a numerical relationship. Each one may be useful in a different circumstance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sson go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94880" y="118692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tudents will recognize that changing the form of a relationship using proportional thinking can be useful to solving a proble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ng ques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3276720"/>
            <a:ext cx="7358040" cy="474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bout how long for a 1200 kB file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ther useful equivalent rates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381480" y="2236320"/>
            <a:ext cx="5824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Gill Sans"/>
              </a:rPr>
              <a:t>Downloaded 3200 kB in 4 sec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249408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90360" y="159984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what would students value?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b5ca9"/>
                </a:solidFill>
                <a:latin typeface="Arial"/>
              </a:rPr>
              <a:t>what would a great answer look like?</a:t>
            </a:r>
            <a:endParaRPr b="0" lang="en-US" sz="52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990360"/>
            <a:ext cx="7358040" cy="5072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ocus on the conceptua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why new description is equivalent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014840" y="242892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90360" y="151920"/>
            <a:ext cx="7358040" cy="5072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why new description is useful 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93520" y="-360"/>
            <a:ext cx="7358040" cy="5072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lvl="1" marL="936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tivity to get to consolid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  <a:ea typeface="Arial Bold"/>
              </a:rPr>
              <a:t>Grade 9 expect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ve problems involving ratios, rates, and directly proportional relationships in various contexts using a variety of metho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matters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ig ide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3520" y="150948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are many equivalent representations for a numerical relationship. Each may be more useful in a particular situa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sson go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 will recognize that determining correct distances on a scale diagram or real distances from a scale diagram involves creating equivalents to the scale ratio or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2.5/3.5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5840" y="151740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between 2/3 and 3/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at 2/3 is between 1/2 and 3/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ng ques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laces on diagram 12 cm apart;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m apart for re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says enough info to know about any two locations on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 or disagree? Explain w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2209680" y="990720"/>
            <a:ext cx="4867560" cy="893520"/>
          </a:xfrm>
          <a:prstGeom prst="leftRightArrow">
            <a:avLst>
              <a:gd name="adj1" fmla="val 32000"/>
              <a:gd name="adj2" fmla="val 43959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803960" y="187488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7199280" y="187488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everywhere: an equivalent rate (6m /12 cm) or ratio (600:12)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would explain how to get i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would justify why can’t have a different ratio in one part of the diagram as another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94880" y="213840"/>
            <a:ext cx="7358040" cy="5072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oosing consolidation quest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120" y="380520"/>
            <a:ext cx="7358040" cy="2629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 your consolid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velop activity to get to the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02800" y="1204560"/>
            <a:ext cx="7358040" cy="529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points from earlier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any changes?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ideas? concerns?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93520" y="-98280"/>
            <a:ext cx="7358040" cy="1714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t this point..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776160" y="946080"/>
            <a:ext cx="67071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625320" y="179280"/>
            <a:ext cx="7723440" cy="50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b5ca9"/>
                </a:solidFill>
                <a:latin typeface="Arial"/>
              </a:rPr>
              <a:t>what to teach?</a:t>
            </a:r>
            <a:endParaRPr b="0" lang="en-US" sz="45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spired by an ide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9880" y="-259200"/>
            <a:ext cx="4125960" cy="232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6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88600" y="2553840"/>
            <a:ext cx="4125960" cy="232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an Meyer” type probl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054840" y="1295280"/>
            <a:ext cx="208908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???#2F00D3.mov" descr="Final Plenary 3.ppt_media/‪Hurricane Destruction‬‏ - YouTube-1.mov"/>
          <p:cNvPicPr/>
          <p:nvPr/>
        </p:nvPicPr>
        <p:blipFill>
          <a:blip r:embed="rId1"/>
          <a:stretch/>
        </p:blipFill>
        <p:spPr>
          <a:xfrm>
            <a:off x="1330200" y="7920"/>
            <a:ext cx="6483600" cy="48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s.yearley</cp:lastModifiedBy>
  <dcterms:modified xsi:type="dcterms:W3CDTF">2011-08-19T18:11:29Z</dcterms:modified>
  <cp:revision>8</cp:revision>
  <dc:subject/>
  <dc:title>&lt;Title&gt;</dc:title>
</cp:coreProperties>
</file>